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DD7A-066C-4B6B-987D-4368F9657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84DB-B0F3-4345-A820-A9766D06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2A61-573A-414B-953B-BDF5A7587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2CBB-513D-4883-BC18-C89C643FC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A9D3-372D-4AF6-936F-5FF2066D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3A73-A441-49EC-835B-EC4DDB78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12DE-DE56-46FF-80C6-B0330DE8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2D84-AA15-4AA7-B53C-6299ED6A7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2A03-7925-4D93-84BB-F6C35EE8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9E44-F047-4E67-BFB8-A1D78B92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9FA7-75B9-439F-9924-D66CB58D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1460-19C6-48F4-8413-A4AF6D2F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1ECA-5B9C-4BE7-810D-6C0FCD04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F044-F1FC-4DB6-8312-6F2C7FD7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552D-7BF9-4038-BD5D-7372138C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EC42-95CE-4578-AD02-4EB5F8DC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0B90-48A2-46B0-A77E-C4514FBA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9593-0E6C-40F4-986A-425B084B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F6CD-D406-40ED-B194-A2AA89480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970C-7DA4-4E69-9283-B86200C9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4F27-4144-440D-80B3-B1261BC18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55E0-8773-4088-9C2D-391CD934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DF02-DECF-496E-86B9-D467A003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C07A-32C0-4B70-AD19-83E75C52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9107-0305-45BF-874C-6F80819EB9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7" descr=""/>
          <p:cNvPicPr/>
          <p:nvPr/>
        </p:nvPicPr>
        <p:blipFill>
          <a:blip r:embed="rId3"/>
          <a:stretch/>
        </p:blipFill>
        <p:spPr>
          <a:xfrm>
            <a:off x="6558120" y="2532240"/>
            <a:ext cx="5634000" cy="4344840"/>
          </a:xfrm>
          <a:prstGeom prst="rect">
            <a:avLst/>
          </a:prstGeom>
          <a:ln w="0">
            <a:noFill/>
          </a:ln>
        </p:spPr>
      </p:pic>
      <p:sp>
        <p:nvSpPr>
          <p:cNvPr id="44" name="Блок-схема: подготовка 8"/>
          <p:cNvSpPr/>
          <p:nvPr/>
        </p:nvSpPr>
        <p:spPr>
          <a:xfrm rot="2913600">
            <a:off x="-528120" y="4389840"/>
            <a:ext cx="4257720" cy="374796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Блок-схема: подготовка 8"/>
          <p:cNvSpPr/>
          <p:nvPr/>
        </p:nvSpPr>
        <p:spPr>
          <a:xfrm rot="2913600">
            <a:off x="124200" y="-770400"/>
            <a:ext cx="2170080" cy="253368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85" name="Блок-схема: подготовка 8"/>
          <p:cNvSpPr/>
          <p:nvPr/>
        </p:nvSpPr>
        <p:spPr>
          <a:xfrm rot="2913600">
            <a:off x="8730720" y="-979200"/>
            <a:ext cx="4257720" cy="374652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Блок-схема: подготовка 8"/>
          <p:cNvSpPr/>
          <p:nvPr/>
        </p:nvSpPr>
        <p:spPr>
          <a:xfrm rot="2913600">
            <a:off x="-414360" y="4390560"/>
            <a:ext cx="4195800" cy="415764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126" name="Блок-схема: подготовка 8"/>
          <p:cNvSpPr/>
          <p:nvPr/>
        </p:nvSpPr>
        <p:spPr>
          <a:xfrm rot="2913600">
            <a:off x="970560" y="1677240"/>
            <a:ext cx="9359640" cy="988524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7" descr="Изображение выглядит как человек, катается на лыжах&#10;&#10;Автоматически созданное описание"/>
          <p:cNvPicPr/>
          <p:nvPr/>
        </p:nvPicPr>
        <p:blipFill>
          <a:blip r:embed="rId3"/>
          <a:stretch/>
        </p:blipFill>
        <p:spPr>
          <a:xfrm>
            <a:off x="-469800" y="4179960"/>
            <a:ext cx="6565680" cy="2678040"/>
          </a:xfrm>
          <a:prstGeom prst="rect">
            <a:avLst/>
          </a:prstGeom>
          <a:ln w="0">
            <a:noFill/>
          </a:ln>
        </p:spPr>
      </p:pic>
      <p:sp>
        <p:nvSpPr>
          <p:cNvPr id="167" name="Блок-схема: подготовка 8"/>
          <p:cNvSpPr/>
          <p:nvPr/>
        </p:nvSpPr>
        <p:spPr>
          <a:xfrm rot="2913600">
            <a:off x="8730720" y="-979200"/>
            <a:ext cx="4257720" cy="374652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B74D-4A79-4E1E-8E4A-E03C026F9A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7" descr="Изображение выглядит как человек, катается на лыжах&#10;&#10;Автоматически созданное описание"/>
          <p:cNvPicPr/>
          <p:nvPr/>
        </p:nvPicPr>
        <p:blipFill>
          <a:blip r:embed="rId3"/>
          <a:stretch/>
        </p:blipFill>
        <p:spPr>
          <a:xfrm>
            <a:off x="5373720" y="4076640"/>
            <a:ext cx="6818400" cy="27813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1111320"/>
            <a:ext cx="7385040" cy="32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72c4"/>
                </a:solidFill>
                <a:latin typeface="Calibri Light"/>
              </a:rPr>
              <a:t>Уровневый подход в создании объективных условий реализации Региональной программы воспитан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Rectangle 1"/>
          <p:cNvSpPr/>
          <p:nvPr/>
        </p:nvSpPr>
        <p:spPr>
          <a:xfrm>
            <a:off x="0" y="5685120"/>
            <a:ext cx="376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тева Любовь Валерьев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иректор МБУ ДО «ЦДО» с. Коче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97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472c4"/>
                </a:solidFill>
                <a:latin typeface="Calibri Light"/>
              </a:rPr>
              <a:t>Муниципальный уровень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1292400" y="1386000"/>
            <a:ext cx="2885760" cy="3179520"/>
          </a:xfrm>
          <a:prstGeom prst="rect">
            <a:avLst/>
          </a:prstGeom>
          <a:solidFill>
            <a:srgbClr val="a5a5a5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Овал 4"/>
          <p:cNvSpPr/>
          <p:nvPr/>
        </p:nvSpPr>
        <p:spPr>
          <a:xfrm>
            <a:off x="2324160" y="1114560"/>
            <a:ext cx="733320" cy="733320"/>
          </a:xfrm>
          <a:prstGeom prst="ellipse">
            <a:avLst/>
          </a:prstGeom>
          <a:solidFill>
            <a:srgbClr val="edede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2195640" y="1528920"/>
            <a:ext cx="733320" cy="707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6"/>
          <p:cNvSpPr/>
          <p:nvPr/>
        </p:nvSpPr>
        <p:spPr>
          <a:xfrm>
            <a:off x="4503600" y="1373040"/>
            <a:ext cx="3251160" cy="3179880"/>
          </a:xfrm>
          <a:prstGeom prst="rect">
            <a:avLst/>
          </a:prstGeom>
          <a:solidFill>
            <a:srgbClr val="f4b183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оздание методических площадок по обобщению результативного опыта образовательных организаций в реализации рабочих программ вос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Объект 2"/>
          <p:cNvSpPr/>
          <p:nvPr/>
        </p:nvSpPr>
        <p:spPr>
          <a:xfrm>
            <a:off x="4492800" y="2309760"/>
            <a:ext cx="2809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Овал 8"/>
          <p:cNvSpPr/>
          <p:nvPr/>
        </p:nvSpPr>
        <p:spPr>
          <a:xfrm>
            <a:off x="6138720" y="1055520"/>
            <a:ext cx="733680" cy="733680"/>
          </a:xfrm>
          <a:prstGeom prst="ellipse">
            <a:avLst/>
          </a:prstGeom>
          <a:solidFill>
            <a:srgbClr val="fbe5d6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0"/>
          <p:cNvSpPr/>
          <p:nvPr/>
        </p:nvSpPr>
        <p:spPr>
          <a:xfrm>
            <a:off x="8102520" y="1420920"/>
            <a:ext cx="3229200" cy="3179520"/>
          </a:xfrm>
          <a:prstGeom prst="rect">
            <a:avLst/>
          </a:prstGeom>
          <a:solidFill>
            <a:srgbClr val="4472c4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беспечение объективного и своевременного предъявления результатов мониторинга качества реализации программ вос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Объект 2"/>
          <p:cNvSpPr/>
          <p:nvPr/>
        </p:nvSpPr>
        <p:spPr>
          <a:xfrm>
            <a:off x="7916760" y="2309760"/>
            <a:ext cx="2809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Овал 12"/>
          <p:cNvSpPr/>
          <p:nvPr/>
        </p:nvSpPr>
        <p:spPr>
          <a:xfrm>
            <a:off x="9412200" y="1125360"/>
            <a:ext cx="733680" cy="733680"/>
          </a:xfrm>
          <a:prstGeom prst="ellipse">
            <a:avLst/>
          </a:prstGeom>
          <a:solidFill>
            <a:srgbClr val="dae3f3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72c4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бъект 2"/>
          <p:cNvSpPr/>
          <p:nvPr/>
        </p:nvSpPr>
        <p:spPr>
          <a:xfrm>
            <a:off x="1343160" y="2117880"/>
            <a:ext cx="2813040" cy="28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55a11"/>
                </a:solidFill>
                <a:latin typeface="Calibri"/>
              </a:rPr>
              <a:t>Разработка и реализация муниципальных программ воспитания и каникулярного отды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c55a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Нижний колонтитул 4"/>
          <p:cNvSpPr/>
          <p:nvPr/>
        </p:nvSpPr>
        <p:spPr>
          <a:xfrm>
            <a:off x="3801960" y="655956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5"/>
          <p:cNvSpPr/>
          <p:nvPr/>
        </p:nvSpPr>
        <p:spPr>
          <a:xfrm>
            <a:off x="0" y="3527280"/>
            <a:ext cx="3252960" cy="3181320"/>
          </a:xfrm>
          <a:prstGeom prst="rect">
            <a:avLst/>
          </a:prstGeom>
          <a:solidFill>
            <a:srgbClr val="92d050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рганизация и проведение конкурсов, слетов, фестивалей и мероприятий детских ,молодежных общественных объединений,  органов ученического самоуправления, волонтерских отрядов, имеющих воспитательный потенци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7"/>
          <p:cNvSpPr/>
          <p:nvPr/>
        </p:nvSpPr>
        <p:spPr>
          <a:xfrm>
            <a:off x="3522600" y="3898800"/>
            <a:ext cx="2886120" cy="3179880"/>
          </a:xfrm>
          <a:prstGeom prst="rect">
            <a:avLst/>
          </a:prstGeom>
          <a:solidFill>
            <a:srgbClr val="ed7d31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существления мониторинга профилактики безнадзорности и правонарушений несовершеннолетних обучаю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18"/>
          <p:cNvSpPr/>
          <p:nvPr/>
        </p:nvSpPr>
        <p:spPr>
          <a:xfrm>
            <a:off x="6637320" y="3817800"/>
            <a:ext cx="2886120" cy="3179880"/>
          </a:xfrm>
          <a:prstGeom prst="rect">
            <a:avLst/>
          </a:prstGeom>
          <a:solidFill>
            <a:srgbClr val="dbdbdb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Координация взаимодействия субъектов воспитания на территории муниципалит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Овал 20"/>
          <p:cNvSpPr/>
          <p:nvPr/>
        </p:nvSpPr>
        <p:spPr>
          <a:xfrm>
            <a:off x="973080" y="3267000"/>
            <a:ext cx="733320" cy="733680"/>
          </a:xfrm>
          <a:prstGeom prst="ellipse">
            <a:avLst/>
          </a:prstGeom>
          <a:solidFill>
            <a:srgbClr val="edede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72c4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Овал 21"/>
          <p:cNvSpPr/>
          <p:nvPr/>
        </p:nvSpPr>
        <p:spPr>
          <a:xfrm>
            <a:off x="4562640" y="3719520"/>
            <a:ext cx="733320" cy="733320"/>
          </a:xfrm>
          <a:prstGeom prst="ellipse">
            <a:avLst/>
          </a:prstGeom>
          <a:solidFill>
            <a:srgbClr val="edede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Овал 22"/>
          <p:cNvSpPr/>
          <p:nvPr/>
        </p:nvSpPr>
        <p:spPr>
          <a:xfrm>
            <a:off x="7710480" y="3522600"/>
            <a:ext cx="733320" cy="733320"/>
          </a:xfrm>
          <a:prstGeom prst="ellipse">
            <a:avLst/>
          </a:prstGeom>
          <a:solidFill>
            <a:srgbClr val="edede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3838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72c4"/>
                </a:solidFill>
                <a:latin typeface="Calibri Light"/>
              </a:rPr>
              <a:t>Важно отметить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Полилиния: фигура 4"/>
          <p:cNvSpPr/>
          <p:nvPr/>
        </p:nvSpPr>
        <p:spPr>
          <a:xfrm>
            <a:off x="984240" y="1579680"/>
            <a:ext cx="2279520" cy="3571920"/>
          </a:xfrm>
          <a:prstGeom prst="pie">
            <a:avLst/>
          </a:prstGeom>
          <a:gradFill rotWithShape="0">
            <a:gsLst>
              <a:gs pos="0">
                <a:srgbClr val="8faadc"/>
              </a:gs>
              <a:gs pos="100000">
                <a:srgbClr val="4472c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олилиния: фигура 6"/>
          <p:cNvSpPr/>
          <p:nvPr/>
        </p:nvSpPr>
        <p:spPr>
          <a:xfrm rot="10800000">
            <a:off x="3908160" y="1579320"/>
            <a:ext cx="2354040" cy="3733560"/>
          </a:xfrm>
          <a:prstGeom prst="pie">
            <a:avLst/>
          </a:prstGeom>
          <a:gradFill rotWithShape="0">
            <a:gsLst>
              <a:gs pos="0">
                <a:srgbClr val="f4b183"/>
              </a:gs>
              <a:gs pos="100000">
                <a:srgbClr val="ed7d3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олилиния: фигура 8"/>
          <p:cNvSpPr/>
          <p:nvPr/>
        </p:nvSpPr>
        <p:spPr>
          <a:xfrm>
            <a:off x="6805440" y="1579680"/>
            <a:ext cx="2581560" cy="3768480"/>
          </a:xfrm>
          <a:prstGeom prst="pie">
            <a:avLst/>
          </a:prstGeom>
          <a:gradFill rotWithShape="0">
            <a:gsLst>
              <a:gs pos="0">
                <a:srgbClr val="c9c9c9"/>
              </a:gs>
              <a:gs pos="100000">
                <a:srgbClr val="a5a5a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олилиния: фигура 10"/>
          <p:cNvSpPr/>
          <p:nvPr/>
        </p:nvSpPr>
        <p:spPr>
          <a:xfrm>
            <a:off x="9704520" y="1584360"/>
            <a:ext cx="2263680" cy="3289320"/>
          </a:xfrm>
          <a:prstGeom prst="pie">
            <a:avLst/>
          </a:prstGeom>
          <a:gradFill rotWithShape="0">
            <a:gsLst>
              <a:gs pos="0">
                <a:srgbClr val="ffd966"/>
              </a:gs>
              <a:gs pos="100000">
                <a:srgbClr val="ffc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Рисунок 11" descr=""/>
          <p:cNvPicPr/>
          <p:nvPr/>
        </p:nvPicPr>
        <p:blipFill>
          <a:blip r:embed="rId1"/>
          <a:stretch/>
        </p:blipFill>
        <p:spPr>
          <a:xfrm>
            <a:off x="1746360" y="181620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12" descr=""/>
          <p:cNvPicPr/>
          <p:nvPr/>
        </p:nvPicPr>
        <p:blipFill>
          <a:blip r:embed="rId2"/>
          <a:stretch/>
        </p:blipFill>
        <p:spPr>
          <a:xfrm>
            <a:off x="4672080" y="1816200"/>
            <a:ext cx="560160" cy="56016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13" descr=""/>
          <p:cNvPicPr/>
          <p:nvPr/>
        </p:nvPicPr>
        <p:blipFill>
          <a:blip r:embed="rId3"/>
          <a:stretch/>
        </p:blipFill>
        <p:spPr>
          <a:xfrm>
            <a:off x="7569360" y="1816200"/>
            <a:ext cx="671400" cy="67140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14" descr=""/>
          <p:cNvPicPr/>
          <p:nvPr/>
        </p:nvPicPr>
        <p:blipFill>
          <a:blip r:embed="rId4"/>
          <a:stretch/>
        </p:blipFill>
        <p:spPr>
          <a:xfrm>
            <a:off x="10468080" y="18162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78" name="TextBox 15"/>
          <p:cNvSpPr/>
          <p:nvPr/>
        </p:nvSpPr>
        <p:spPr>
          <a:xfrm>
            <a:off x="1071720" y="2400480"/>
            <a:ext cx="1485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ластерная модель воспит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6"/>
          <p:cNvSpPr/>
          <p:nvPr/>
        </p:nvSpPr>
        <p:spPr>
          <a:xfrm>
            <a:off x="1108080" y="3368520"/>
            <a:ext cx="1913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риативность и решение разноплановых зада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7"/>
          <p:cNvSpPr/>
          <p:nvPr/>
        </p:nvSpPr>
        <p:spPr>
          <a:xfrm>
            <a:off x="4091040" y="2400480"/>
            <a:ext cx="1800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казатели и индикаторы реализации 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8"/>
          <p:cNvSpPr/>
          <p:nvPr/>
        </p:nvSpPr>
        <p:spPr>
          <a:xfrm>
            <a:off x="4305240" y="3587760"/>
            <a:ext cx="1563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товые показатели для каждой О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9"/>
          <p:cNvSpPr/>
          <p:nvPr/>
        </p:nvSpPr>
        <p:spPr>
          <a:xfrm>
            <a:off x="6988320" y="2390760"/>
            <a:ext cx="2282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сурс своб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ование имеющихся ресурсов и поиск новых в практической реализации муниципальной программы воспит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1"/>
          <p:cNvSpPr/>
          <p:nvPr/>
        </p:nvSpPr>
        <p:spPr>
          <a:xfrm>
            <a:off x="9710640" y="2400480"/>
            <a:ext cx="2141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нкретизац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ена роль муниципалитета и поставлены конкретные задачи в региональной системе воспит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22"/>
          <p:cNvSpPr/>
          <p:nvPr/>
        </p:nvSpPr>
        <p:spPr>
          <a:xfrm>
            <a:off x="9977400" y="2789280"/>
            <a:ext cx="14842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Нижний колонтитул 4"/>
          <p:cNvSpPr/>
          <p:nvPr/>
        </p:nvSpPr>
        <p:spPr>
          <a:xfrm>
            <a:off x="3801960" y="655956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0480" y="365040"/>
            <a:ext cx="112028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72c4"/>
                </a:solidFill>
                <a:latin typeface="Calibri Light"/>
              </a:rPr>
              <a:t>Обновление системы дополнительного образован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85760" y="1793520"/>
            <a:ext cx="8507520" cy="30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472c4"/>
                </a:solidFill>
                <a:latin typeface="Calibri"/>
              </a:rPr>
              <a:t>Задачи направления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увеличение охвата дополнительным образованием детей (в том числе детей, проживающих в сельской местности, находящихся в трудной жизненной ситуации, детей с ограниченными возможностями здоровья (далее – ОВЗ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формирование механизмов преемственности образовательных траекторий общего, профессионального, высшего образования с в дополнительным образование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обновление содержания, технологий и форматов дополнительного образования детей для удовлетворения индивидуальных запросов и решения задач социального и технологического развития регион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формирование эффективной межведомственной системы управления развитием дополнительного образования де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Рисунок 4" descr=""/>
          <p:cNvPicPr/>
          <p:nvPr/>
        </p:nvPicPr>
        <p:blipFill>
          <a:blip r:embed="rId1"/>
          <a:stretch/>
        </p:blipFill>
        <p:spPr>
          <a:xfrm>
            <a:off x="7743960" y="3100320"/>
            <a:ext cx="3757320" cy="375768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2f5597">
                <a:alpha val="40000"/>
              </a:srgbClr>
            </a:outerShdw>
          </a:effectLst>
        </p:spPr>
      </p:pic>
      <p:sp>
        <p:nvSpPr>
          <p:cNvPr id="289" name="Прямоугольник 5"/>
          <p:cNvSpPr/>
          <p:nvPr/>
        </p:nvSpPr>
        <p:spPr>
          <a:xfrm>
            <a:off x="10002960" y="547560"/>
            <a:ext cx="19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472c4"/>
                </a:solidFill>
                <a:latin typeface="Calibri Light"/>
              </a:rPr>
              <a:t>Средства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использование потенциала неформального и информального образования (образовательный туризм, музейная и театральная педагогика, а также социальные медиа, блогинг и др.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интеграция и сетевое взаимодействие общего и дополнительного образован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геймификация (образовательных игр) и д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472c4"/>
                </a:solidFill>
                <a:latin typeface="Calibri Light"/>
              </a:rPr>
              <a:t>Возможные проекты в развитии дополнительного образования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243000" y="1378080"/>
            <a:ext cx="11795040" cy="47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включение в содержание дополнительных общеобразовательных программ всех направленностей модуля или воспитательного компонента, направленного на формирование у детей и молодежи общероссийской гражданской идентичности, патриотизма, гражданской ответственности, чувства гордости за историю России, воспитание культуры межнационального общения;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разработка и внедрение организациями дополнительного образования детей программ воспита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реализация образовательных моделей, обеспечивающих применение получаемых знаний для решения актуальных проблем сообщества (хакатоны, практики, профориентационные каникулы, социально-значимые проекты, например, «Я – гражданин», Менторские КРУГи и пр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5-07T08:34:05Z</dcterms:created>
  <dc:creator>User Obstinate</dc:creator>
  <dc:description/>
  <dc:language>en-US</dc:language>
  <cp:lastModifiedBy>user</cp:lastModifiedBy>
  <dcterms:modified xsi:type="dcterms:W3CDTF">2021-08-16T12:19:10Z</dcterms:modified>
  <cp:revision>21</cp:revision>
  <dc:subject/>
  <dc:title>Презентация PowerPoint</dc:title>
</cp:coreProperties>
</file>